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98F-37B7-45DB-9659-115B6ACC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86D-146C-4D7F-86DD-9037C12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52B-0FD8-485C-AE0D-F09AB022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F5C-4B05-437C-AA49-A7340E72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7BBF-CAE1-4A59-92FC-66BA39DA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71BE-D9EB-4EB3-B14E-A1C38485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C71D-3640-4008-BEF1-49E9CA56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5FD4-23B9-470C-8C00-FE62B6AD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6401-96E8-4E06-9F07-400E4D91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9370-EEC4-4D23-9A39-74C8F71F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4B89-33E8-49E3-AC91-8657B486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8E0-004C-4906-9DA3-06236FFB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16DB-48B3-438C-AD77-3883D783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CE21-66F3-42B3-A71E-621B113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ED3C-850C-48E6-8358-78AAFEBE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A20D-1B26-4963-988D-F2AFC4AA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FEF9-C889-457D-99D2-48BB835D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793-86CE-4D24-8092-4E9DFC7A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8F9-3E01-47FB-9B5F-E38495D7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540-083F-4A4A-9C32-F4B8100B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EFB-131C-4237-959B-53582577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9B4-7922-4A0C-BE45-4B681A8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65D-847D-4D69-9FBD-DC97DB5B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73E-624A-4E18-80E6-93F962A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6C4B-74A4-4A1E-BCCB-7E594784D8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3373-6D62-451E-A7D6-6C4F4F7780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 Students will determine equivalent ratios/propor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3200" spc="-1" strike="noStrike">
                <a:solidFill>
                  <a:srgbClr val="827f4c"/>
                </a:solidFill>
                <a:latin typeface="Arial"/>
              </a:rPr>
              <a:t>Proportions in Geometry?</a:t>
            </a: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rtions can be used to find missing dimensions of similar figu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4419720"/>
            <a:ext cx="1600200" cy="1066680"/>
          </a:xfrm>
          <a:prstGeom prst="rect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40200" y="29923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429000"/>
            <a:ext cx="3048120" cy="1523880"/>
          </a:xfrm>
          <a:prstGeom prst="rect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9760" y="4068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47680" y="47545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00560" y="39164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72120" y="304164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4000" spc="-1" strike="noStrike">
                <a:solidFill>
                  <a:srgbClr val="827f4c"/>
                </a:solidFill>
                <a:latin typeface="Arial"/>
              </a:rPr>
              <a:t>Finding the missing sides 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 by setting up the ratios using a variable for the missing si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09880" y="2741760"/>
                <a:ext cx="12956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609480" y="47563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 cross products to solve for the varia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3200" spc="-1" strike="noStrike">
                <a:solidFill>
                  <a:srgbClr val="827f4c"/>
                </a:solidFill>
                <a:latin typeface="Arial"/>
              </a:rPr>
              <a:t>Let’s Practice</a:t>
            </a:r>
            <a:r>
              <a:rPr b="0" lang="en-US" sz="4000" spc="-1" strike="noStrike">
                <a:solidFill>
                  <a:srgbClr val="827f4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962520"/>
            <a:ext cx="1066680" cy="1295280"/>
          </a:xfrm>
          <a:prstGeom prst="rtTriangle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066680"/>
            <a:ext cx="1981080" cy="2362320"/>
          </a:xfrm>
          <a:prstGeom prst="rtTriangle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648320"/>
            <a:ext cx="5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65840" y="525780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581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Your turn: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600" y="1981080"/>
            <a:ext cx="86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ngle one has a length of 9 cm and width of 15 cm.  Rectangle two h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ength 20 cm and width of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value of 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4027320"/>
            <a:ext cx="846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iangle one has a leg 8 ft and another 21 ft.  Triangle two h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eg 20 ft and another leg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q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t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value of q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Homework: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zzazz Worksheet E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2:53:40Z</dcterms:created>
  <dc:creator>ccps</dc:creator>
  <dc:description/>
  <dc:language>en-US</dc:language>
  <cp:lastModifiedBy>Brian McGrath</cp:lastModifiedBy>
  <dcterms:modified xsi:type="dcterms:W3CDTF">2011-05-18T03:05:44Z</dcterms:modified>
  <cp:revision>9</cp:revision>
  <dc:subject/>
  <dc:title>Unit 13</dc:title>
</cp:coreProperties>
</file>